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6858000" cy="9144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80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336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3544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991880" y="742680"/>
            <a:ext cx="2784600" cy="371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7520" y="4707000"/>
            <a:ext cx="54133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07520"/>
            <a:ext cx="29336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35440" y="940752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103FF-73D4-4278-AB97-0B8FF007AC4E}" type="slidenum">
              <a:rPr b="1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992240" y="743040"/>
            <a:ext cx="2784600" cy="3716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77520" y="4707000"/>
            <a:ext cx="541332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Espaço Reservado para Número de Slide 3"/>
          <p:cNvSpPr/>
          <p:nvPr/>
        </p:nvSpPr>
        <p:spPr>
          <a:xfrm>
            <a:off x="3835440" y="9407520"/>
            <a:ext cx="29304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16A51-9F37-45A0-8F15-7473882DF7DE}" type="slidenum">
              <a:rPr b="1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992240" y="743040"/>
            <a:ext cx="2784600" cy="371628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77520" y="4707000"/>
            <a:ext cx="541332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Espaço Reservado para Número de Slide 3"/>
          <p:cNvSpPr/>
          <p:nvPr/>
        </p:nvSpPr>
        <p:spPr>
          <a:xfrm>
            <a:off x="3835440" y="9407520"/>
            <a:ext cx="29304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ED156-3095-4D1F-A10C-4F189593DE10}" type="slidenum">
              <a:rPr b="1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992240" y="743040"/>
            <a:ext cx="2784600" cy="371628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77520" y="4707000"/>
            <a:ext cx="541332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Espaço Reservado para Número de Slide 3"/>
          <p:cNvSpPr/>
          <p:nvPr/>
        </p:nvSpPr>
        <p:spPr>
          <a:xfrm>
            <a:off x="3835440" y="9407520"/>
            <a:ext cx="29304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88DAD-4E3A-4A7A-9D66-FAF0B571F015}" type="slidenum">
              <a:rPr b="1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AEEF-0DA3-4A00-A50F-2E9D37524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8204-4C60-4F78-ADFA-47E63A887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7975-EDBE-4639-9155-8BA066DE3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4203-91FC-4C6B-B616-5E242784A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A7F5-4CD8-44D0-978F-0F52329ED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013A-FCAA-4815-B62A-3F6D3E05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BABF-77C9-4C86-AE49-D6097DC88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614D-584E-4725-BA09-5411A9D05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BC0C-3C3D-4B30-A010-0458AB118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A81B-98E4-45D1-A77D-0358C916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CC1A-9F10-4E6F-BE13-AA2650ED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0F75-73B2-472F-A556-ACF784A2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54110-7EEA-4569-A231-87FB13C71D76}" type="slidenum">
              <a:rPr b="1" lang="pt-B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Espaço Reservado para Texto 3"/>
          <p:cNvSpPr/>
          <p:nvPr/>
        </p:nvSpPr>
        <p:spPr>
          <a:xfrm>
            <a:off x="2349360" y="6566040"/>
            <a:ext cx="215928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Verdana"/>
                <a:ea typeface="Verdana"/>
              </a:rPr>
              <a:t>TAG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Fundacao_Renova_Marca_RGB_1.png"/>
          <p:cNvPicPr/>
          <p:nvPr/>
        </p:nvPicPr>
        <p:blipFill>
          <a:blip r:embed="rId1"/>
          <a:stretch/>
        </p:blipFill>
        <p:spPr>
          <a:xfrm>
            <a:off x="1197000" y="3376440"/>
            <a:ext cx="4464000" cy="133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" name=""/>
          <p:cNvGraphicFramePr/>
          <p:nvPr/>
        </p:nvGraphicFramePr>
        <p:xfrm>
          <a:off x="115920" y="133200"/>
          <a:ext cx="3500280" cy="1282680"/>
        </p:xfrm>
        <a:graphic>
          <a:graphicData uri="http://schemas.openxmlformats.org/drawingml/2006/table">
            <a:tbl>
              <a:tblPr/>
              <a:tblGrid>
                <a:gridCol w="1725480"/>
                <a:gridCol w="1774800"/>
              </a:tblGrid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ctr" pos="2698920"/>
                          <a:tab algn="r" pos="53989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ódigo: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698920"/>
                          <a:tab algn="r" pos="53989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M-SES-00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</a:tr>
              <a:tr h="183960"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ctr" pos="2698920"/>
                          <a:tab algn="r" pos="53989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º da revisão: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698920"/>
                          <a:tab algn="r" pos="53989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</a:tr>
              <a:tr h="184320"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ctr" pos="2698920"/>
                          <a:tab algn="r" pos="53989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aborador: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698920"/>
                          <a:tab algn="r" pos="53989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niela Cristina De Castr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ctr" pos="2698920"/>
                          <a:tab algn="r" pos="53989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rovador: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698920"/>
                          <a:tab algn="r" pos="53989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ubens Bechara Junior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ctr" pos="2698920"/>
                          <a:tab algn="r" pos="53989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da aprovação: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698920"/>
                          <a:tab algn="r" pos="53989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7/10/202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ctr" pos="2698920"/>
                          <a:tab algn="r" pos="53989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iodicidade da revisão: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698920"/>
                          <a:tab algn="r" pos="53989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ual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</a:tr>
              <a:tr h="183960"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ctr" pos="2698920"/>
                          <a:tab algn="r" pos="53989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ificação: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2698920"/>
                          <a:tab algn="r" pos="53989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úblic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a6a6a6"/>
                      </a:solidFill>
                    </a:lnL>
                    <a:lnR w="5760">
                      <a:solidFill>
                        <a:srgbClr val="a6a6a6"/>
                      </a:solidFill>
                    </a:lnR>
                    <a:lnT w="5760">
                      <a:solidFill>
                        <a:srgbClr val="a6a6a6"/>
                      </a:solidFill>
                    </a:lnT>
                    <a:lnB w="5760">
                      <a:solidFill>
                        <a:srgbClr val="a6a6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2" descr=""/>
          <p:cNvPicPr/>
          <p:nvPr/>
        </p:nvPicPr>
        <p:blipFill>
          <a:blip r:embed="rId1"/>
          <a:srcRect l="0" t="0" r="1913" b="0"/>
          <a:stretch/>
        </p:blipFill>
        <p:spPr>
          <a:xfrm>
            <a:off x="204840" y="179280"/>
            <a:ext cx="3008160" cy="495360"/>
          </a:xfrm>
          <a:prstGeom prst="rect">
            <a:avLst/>
          </a:prstGeom>
          <a:ln w="0">
            <a:noFill/>
          </a:ln>
        </p:spPr>
      </p:pic>
      <p:pic>
        <p:nvPicPr>
          <p:cNvPr id="52" name="Imagem 1" descr=""/>
          <p:cNvPicPr/>
          <p:nvPr/>
        </p:nvPicPr>
        <p:blipFill>
          <a:blip r:embed="rId2">
            <a:alphaModFix amt="14000"/>
          </a:blip>
          <a:stretch/>
        </p:blipFill>
        <p:spPr>
          <a:xfrm>
            <a:off x="2479680" y="488880"/>
            <a:ext cx="733320" cy="7700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"/>
          <p:cNvSpPr/>
          <p:nvPr/>
        </p:nvSpPr>
        <p:spPr>
          <a:xfrm>
            <a:off x="189000" y="179280"/>
            <a:ext cx="3024000" cy="432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189000" y="4572000"/>
            <a:ext cx="302400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357720" y="179280"/>
            <a:ext cx="3024000" cy="432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3365640" y="684360"/>
            <a:ext cx="2990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  <a:ea typeface="Arial"/>
              </a:rPr>
              <a:t>Autorização de Acesso </a:t>
            </a:r>
            <a:r>
              <a:rPr b="1" lang="pt-BR" sz="1100" spc="-1" strike="noStrike">
                <a:solidFill>
                  <a:srgbClr val="000000"/>
                </a:solidFill>
                <a:latin typeface="Arial"/>
                <a:ea typeface="Arial"/>
              </a:rPr>
              <a:t>Nº: 761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"/>
          <p:cNvSpPr/>
          <p:nvPr/>
        </p:nvSpPr>
        <p:spPr>
          <a:xfrm>
            <a:off x="189000" y="1216080"/>
            <a:ext cx="322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Empresa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: Hidroges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>
            <a:off x="3357720" y="4572000"/>
            <a:ext cx="302400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0"/>
          <p:cNvSpPr/>
          <p:nvPr/>
        </p:nvSpPr>
        <p:spPr>
          <a:xfrm rot="10800000">
            <a:off x="3403080" y="4573440"/>
            <a:ext cx="295308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Arial"/>
              </a:rPr>
              <a:t>Liberado por: Equipe de Gestão de SS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Arial"/>
              </a:rPr>
              <a:t>Data: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  <a:ea typeface="Arial"/>
              </a:rPr>
              <a:t>ESTA CREDENCIAL SOMENTE PODERÁ SER UTILIZADA NAS ATIVIDADES DA FUNDAÇÃO RENOVA.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  <a:ea typeface="Arial"/>
              </a:rPr>
              <a:t>CONDUTOR DO VEÍCULO DEVE PORTAR E APRESENTAR OS DOCUMENTOS DE USO OBRIGATÓRIO (DUT E CNH) SEMPRE QUE SOLICITADO.</a:t>
            </a:r>
            <a:br>
              <a:rPr sz="800"/>
            </a:br>
            <a:br>
              <a:rPr sz="800"/>
            </a:br>
            <a:r>
              <a:rPr b="0" lang="pt-BR" sz="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br>
              <a:rPr sz="800"/>
            </a:br>
            <a:br>
              <a:rPr sz="800"/>
            </a:br>
            <a:r>
              <a:rPr b="0" lang="pt-BR" sz="800" spc="-1" strike="noStrike">
                <a:solidFill>
                  <a:srgbClr val="000000"/>
                </a:solidFill>
                <a:latin typeface="Arial"/>
                <a:ea typeface="Arial"/>
              </a:rPr>
              <a:t>O CONDUTOR É INTEIRAMENTE RESPONSÁVEL POR ESTE DOCUMENTO, DEVENDO, CASO DE EXTRAVIO, COMUNICAR FORMALMENTE ATRAVÉS DE E-MAIL PARA A EQUIPE DE GESTÃO DE SST.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0"/>
          <p:cNvSpPr/>
          <p:nvPr/>
        </p:nvSpPr>
        <p:spPr>
          <a:xfrm rot="10800000">
            <a:off x="3403080" y="7164360"/>
            <a:ext cx="2953080" cy="1295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OBSERVAÇÃO: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196920" y="1825560"/>
            <a:ext cx="302400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Arial"/>
                <a:ea typeface="Arial"/>
              </a:rPr>
              <a:t>VEÍCULO LEV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HGT 00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Plac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ODO 0487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1"/>
          <p:cNvSpPr/>
          <p:nvPr/>
        </p:nvSpPr>
        <p:spPr>
          <a:xfrm>
            <a:off x="187200" y="3606840"/>
            <a:ext cx="30117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Arial"/>
              </a:rPr>
              <a:t>Validade</a:t>
            </a:r>
            <a:br>
              <a:rPr sz="1000"/>
            </a:b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pt-BR" sz="3000" spc="-1" strike="noStrike" u="sng">
                <a:solidFill>
                  <a:srgbClr val="000000"/>
                </a:solidFill>
                <a:uFillTx/>
                <a:latin typeface="Arial Black"/>
              </a:rPr>
              <a:t>20/06/2017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195120" y="712800"/>
            <a:ext cx="237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Autorização de Acesso </a:t>
            </a:r>
            <a:r>
              <a:rPr b="1" lang="pt-BR" sz="1100" spc="-1" strike="noStrike">
                <a:solidFill>
                  <a:srgbClr val="000000"/>
                </a:solidFill>
                <a:latin typeface="Arial"/>
                <a:ea typeface="Arial"/>
              </a:rPr>
              <a:t>Nº: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0"/>
          <p:cNvSpPr/>
          <p:nvPr/>
        </p:nvSpPr>
        <p:spPr>
          <a:xfrm rot="10800000">
            <a:off x="204840" y="4643280"/>
            <a:ext cx="2952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Arial"/>
              </a:rPr>
              <a:t>Liberado por:  Equipe de Gestão de SS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Arial"/>
              </a:rPr>
              <a:t>Data: 02/03/2017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  <a:ea typeface="Arial"/>
              </a:rPr>
              <a:t>ESTA CREDENCIAL SOMENTE PODERÁ SER UTILIZADA NAS ATIVIDADES DA FUNDAÇÃO RENOVA.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  <a:ea typeface="Arial"/>
              </a:rPr>
              <a:t>CONDUTOR DO VEÍCULO DEVE PORTAR E APRESENTAR OS DOCUMENTOS DE USO OBRIGATÓRIO (DUT E CNH) SEMPRE QUE SOLICITADO.</a:t>
            </a:r>
            <a:br>
              <a:rPr sz="800"/>
            </a:br>
            <a:br>
              <a:rPr sz="800"/>
            </a:br>
            <a:r>
              <a:rPr b="0" lang="pt-BR" sz="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br>
              <a:rPr sz="800"/>
            </a:br>
            <a:br>
              <a:rPr sz="800"/>
            </a:br>
            <a:r>
              <a:rPr b="0" lang="pt-BR" sz="800" spc="-1" strike="noStrike">
                <a:solidFill>
                  <a:srgbClr val="000000"/>
                </a:solidFill>
                <a:latin typeface="Arial"/>
                <a:ea typeface="Arial"/>
              </a:rPr>
              <a:t>O CONDUTOR É INTEIRAMENTE RESPONSÁVEL POR ESTE DOCUMENTO, DEVENDO, CASO DE EXTRAVIO, COMUNICAR FORMALMENTE ATRAVÉS DE E-MAIL PARA A EQUIPE DE GESTÃO DE SST.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0"/>
          <p:cNvSpPr/>
          <p:nvPr/>
        </p:nvSpPr>
        <p:spPr>
          <a:xfrm rot="10800000">
            <a:off x="225360" y="7093080"/>
            <a:ext cx="2952720" cy="1295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OBSERVAÇÃO: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1"/>
          <p:cNvSpPr/>
          <p:nvPr/>
        </p:nvSpPr>
        <p:spPr>
          <a:xfrm>
            <a:off x="3384720" y="3606840"/>
            <a:ext cx="3011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Arial"/>
              </a:rPr>
              <a:t>Validade</a:t>
            </a:r>
            <a:br>
              <a:rPr sz="1000"/>
            </a:b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pt-BR" sz="3000" spc="-1" strike="noStrike" u="sng">
                <a:solidFill>
                  <a:srgbClr val="000000"/>
                </a:solidFill>
                <a:uFillTx/>
                <a:latin typeface="Arial Black"/>
              </a:rPr>
              <a:t>04/02/2017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3373560" y="900000"/>
            <a:ext cx="29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Frente: 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Tributário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9"/>
          <p:cNvSpPr/>
          <p:nvPr/>
        </p:nvSpPr>
        <p:spPr>
          <a:xfrm>
            <a:off x="3373560" y="1187280"/>
            <a:ext cx="322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Empresa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: EBJ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0"/>
          <p:cNvSpPr/>
          <p:nvPr/>
        </p:nvSpPr>
        <p:spPr>
          <a:xfrm>
            <a:off x="3375000" y="1825560"/>
            <a:ext cx="3024360" cy="21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Arial"/>
                <a:ea typeface="Arial"/>
              </a:rPr>
              <a:t>VEÍCULO LEV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EBJ 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Plac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PXX 7174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2" descr=""/>
          <p:cNvPicPr/>
          <p:nvPr/>
        </p:nvPicPr>
        <p:blipFill>
          <a:blip r:embed="rId3"/>
          <a:srcRect l="0" t="0" r="1913" b="0"/>
          <a:stretch/>
        </p:blipFill>
        <p:spPr>
          <a:xfrm>
            <a:off x="3365640" y="195120"/>
            <a:ext cx="3008160" cy="4953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8"/>
          <p:cNvSpPr/>
          <p:nvPr/>
        </p:nvSpPr>
        <p:spPr>
          <a:xfrm>
            <a:off x="185760" y="960480"/>
            <a:ext cx="302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Frente: 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Barrage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4" descr=""/>
          <p:cNvPicPr/>
          <p:nvPr/>
        </p:nvPicPr>
        <p:blipFill>
          <a:blip r:embed="rId4"/>
          <a:stretch/>
        </p:blipFill>
        <p:spPr>
          <a:xfrm>
            <a:off x="5630760" y="557280"/>
            <a:ext cx="73188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2" descr=""/>
          <p:cNvPicPr/>
          <p:nvPr/>
        </p:nvPicPr>
        <p:blipFill>
          <a:blip r:embed="rId1"/>
          <a:srcRect l="0" t="0" r="1913" b="0"/>
          <a:stretch/>
        </p:blipFill>
        <p:spPr>
          <a:xfrm>
            <a:off x="204840" y="179280"/>
            <a:ext cx="3008160" cy="495360"/>
          </a:xfrm>
          <a:prstGeom prst="rect">
            <a:avLst/>
          </a:prstGeom>
          <a:ln w="0">
            <a:noFill/>
          </a:ln>
        </p:spPr>
      </p:pic>
      <p:pic>
        <p:nvPicPr>
          <p:cNvPr id="74" name="Imagem 1" descr=""/>
          <p:cNvPicPr/>
          <p:nvPr/>
        </p:nvPicPr>
        <p:blipFill>
          <a:blip r:embed="rId2">
            <a:alphaModFix amt="14000"/>
          </a:blip>
          <a:stretch/>
        </p:blipFill>
        <p:spPr>
          <a:xfrm>
            <a:off x="2479680" y="488880"/>
            <a:ext cx="733320" cy="7700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2"/>
          <p:cNvSpPr/>
          <p:nvPr/>
        </p:nvSpPr>
        <p:spPr>
          <a:xfrm>
            <a:off x="189000" y="179280"/>
            <a:ext cx="3024000" cy="432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189000" y="4572000"/>
            <a:ext cx="302400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3357720" y="179280"/>
            <a:ext cx="3024000" cy="432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3365640" y="684360"/>
            <a:ext cx="2990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  <a:ea typeface="Arial"/>
              </a:rPr>
              <a:t>Autorização de Acesso </a:t>
            </a:r>
            <a:r>
              <a:rPr b="1" lang="pt-BR" sz="1100" spc="-1" strike="noStrike">
                <a:solidFill>
                  <a:srgbClr val="000000"/>
                </a:solidFill>
                <a:latin typeface="Arial"/>
                <a:ea typeface="Arial"/>
              </a:rPr>
              <a:t>Nº: 944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9"/>
          <p:cNvSpPr/>
          <p:nvPr/>
        </p:nvSpPr>
        <p:spPr>
          <a:xfrm>
            <a:off x="189000" y="1216080"/>
            <a:ext cx="322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Empresa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: EBJ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4"/>
          <p:cNvSpPr/>
          <p:nvPr/>
        </p:nvSpPr>
        <p:spPr>
          <a:xfrm>
            <a:off x="3357720" y="4572000"/>
            <a:ext cx="302400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0"/>
          <p:cNvSpPr/>
          <p:nvPr/>
        </p:nvSpPr>
        <p:spPr>
          <a:xfrm rot="10800000">
            <a:off x="3403080" y="4573440"/>
            <a:ext cx="295308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Arial"/>
              </a:rPr>
              <a:t>Liberado por: Equipe de Gestão de SS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Arial"/>
              </a:rPr>
              <a:t>Data: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  <a:ea typeface="Arial"/>
              </a:rPr>
              <a:t>ESTA CREDENCIAL SOMENTE PODERÁ SER UTILIZADA NAS ATIVIDADES DA FUNDAÇÃO RENOVA.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  <a:ea typeface="Arial"/>
              </a:rPr>
              <a:t>CONDUTOR DO VEÍCULO DEVE PORTAR E APRESENTAR OS DOCUMENTOS DE USO OBRIGATÓRIO (DUT E CNH) SEMPRE QUE SOLICITADO.</a:t>
            </a:r>
            <a:br>
              <a:rPr sz="800"/>
            </a:br>
            <a:br>
              <a:rPr sz="800"/>
            </a:br>
            <a:r>
              <a:rPr b="0" lang="pt-BR" sz="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br>
              <a:rPr sz="800"/>
            </a:br>
            <a:br>
              <a:rPr sz="800"/>
            </a:br>
            <a:r>
              <a:rPr b="0" lang="pt-BR" sz="800" spc="-1" strike="noStrike">
                <a:solidFill>
                  <a:srgbClr val="000000"/>
                </a:solidFill>
                <a:latin typeface="Arial"/>
                <a:ea typeface="Arial"/>
              </a:rPr>
              <a:t>O CONDUTOR É INTEIRAMENTE RESPONSÁVEL POR ESTE DOCUMENTO, DEVENDO, CASO DE EXTRAVIO, COMUNICAR FORMALMENTE ATRAVÉS DE E-MAIL PARA A EQUIPE DE GESTÃO DE SST.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0"/>
          <p:cNvSpPr/>
          <p:nvPr/>
        </p:nvSpPr>
        <p:spPr>
          <a:xfrm rot="10800000">
            <a:off x="3403080" y="7164360"/>
            <a:ext cx="2953080" cy="1295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OBSERVAÇÃO: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0"/>
          <p:cNvSpPr/>
          <p:nvPr/>
        </p:nvSpPr>
        <p:spPr>
          <a:xfrm>
            <a:off x="196920" y="1825560"/>
            <a:ext cx="3024000" cy="17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Arial"/>
                <a:ea typeface="Arial"/>
              </a:rPr>
              <a:t>VEÍCULO LEV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EBJ-009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Plac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OYK-3350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1"/>
          <p:cNvSpPr/>
          <p:nvPr/>
        </p:nvSpPr>
        <p:spPr>
          <a:xfrm>
            <a:off x="187200" y="3606840"/>
            <a:ext cx="30117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Arial"/>
              </a:rPr>
              <a:t>Validade</a:t>
            </a:r>
            <a:br>
              <a:rPr sz="1000"/>
            </a:b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pt-BR" sz="3000" spc="-1" strike="noStrike" u="sng">
                <a:solidFill>
                  <a:srgbClr val="000000"/>
                </a:solidFill>
                <a:uFillTx/>
                <a:latin typeface="Arial Black"/>
              </a:rPr>
              <a:t>16/03/2017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6"/>
          <p:cNvSpPr/>
          <p:nvPr/>
        </p:nvSpPr>
        <p:spPr>
          <a:xfrm>
            <a:off x="195120" y="712800"/>
            <a:ext cx="237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Autorização de Acesso </a:t>
            </a:r>
            <a:r>
              <a:rPr b="1" lang="pt-BR" sz="1100" spc="-1" strike="noStrike">
                <a:solidFill>
                  <a:srgbClr val="000000"/>
                </a:solidFill>
                <a:latin typeface="Arial"/>
                <a:ea typeface="Arial"/>
              </a:rPr>
              <a:t>Nº: 461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0"/>
          <p:cNvSpPr/>
          <p:nvPr/>
        </p:nvSpPr>
        <p:spPr>
          <a:xfrm rot="10800000">
            <a:off x="204840" y="4643280"/>
            <a:ext cx="2952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Arial"/>
              </a:rPr>
              <a:t>Liberado por:  Equipe de Gestão de SS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Arial"/>
              </a:rPr>
              <a:t>Data: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  <a:ea typeface="Arial"/>
              </a:rPr>
              <a:t>ESTA CREDENCIAL SOMENTE PODERÁ SER UTILIZADA NAS ATIVIDADES DA FUNDAÇÃO RENOVA.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  <a:ea typeface="Arial"/>
              </a:rPr>
              <a:t>CONDUTOR DO VEÍCULO DEVE PORTAR E APRESENTAR OS DOCUMENTOS DE USO OBRIGATÓRIO (DUT E CNH) SEMPRE QUE SOLICITADO.</a:t>
            </a:r>
            <a:br>
              <a:rPr sz="800"/>
            </a:br>
            <a:br>
              <a:rPr sz="800"/>
            </a:br>
            <a:r>
              <a:rPr b="0" lang="pt-BR" sz="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br>
              <a:rPr sz="800"/>
            </a:br>
            <a:br>
              <a:rPr sz="800"/>
            </a:br>
            <a:r>
              <a:rPr b="0" lang="pt-BR" sz="800" spc="-1" strike="noStrike">
                <a:solidFill>
                  <a:srgbClr val="000000"/>
                </a:solidFill>
                <a:latin typeface="Arial"/>
                <a:ea typeface="Arial"/>
              </a:rPr>
              <a:t>O CONDUTOR É INTEIRAMENTE RESPONSÁVEL POR ESTE DOCUMENTO, DEVENDO, CASO DE EXTRAVIO, COMUNICAR FORMALMENTE ATRAVÉS DE E-MAIL PARA A EQUIPE DE GESTÃO DE SST.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0"/>
          <p:cNvSpPr/>
          <p:nvPr/>
        </p:nvSpPr>
        <p:spPr>
          <a:xfrm rot="10800000">
            <a:off x="225360" y="7093080"/>
            <a:ext cx="2952720" cy="1295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OBSERVAÇÃO: 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1"/>
          <p:cNvSpPr/>
          <p:nvPr/>
        </p:nvSpPr>
        <p:spPr>
          <a:xfrm>
            <a:off x="3384720" y="3606840"/>
            <a:ext cx="3011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Arial"/>
              </a:rPr>
              <a:t>Validade</a:t>
            </a:r>
            <a:br>
              <a:rPr sz="1000"/>
            </a:b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pt-BR" sz="3000" spc="-1" strike="noStrike" u="sng">
                <a:solidFill>
                  <a:srgbClr val="000000"/>
                </a:solidFill>
                <a:uFillTx/>
                <a:latin typeface="Arial Black"/>
              </a:rPr>
              <a:t>16/03/2017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8"/>
          <p:cNvSpPr/>
          <p:nvPr/>
        </p:nvSpPr>
        <p:spPr>
          <a:xfrm>
            <a:off x="3373560" y="900000"/>
            <a:ext cx="29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Frente: 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Tributário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9"/>
          <p:cNvSpPr/>
          <p:nvPr/>
        </p:nvSpPr>
        <p:spPr>
          <a:xfrm>
            <a:off x="3373560" y="1187280"/>
            <a:ext cx="322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Empresa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: EBJ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0"/>
          <p:cNvSpPr/>
          <p:nvPr/>
        </p:nvSpPr>
        <p:spPr>
          <a:xfrm>
            <a:off x="3375000" y="1825560"/>
            <a:ext cx="302436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Arial"/>
                <a:ea typeface="Arial"/>
              </a:rPr>
              <a:t>VEÍCULO LEVE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EBJ-011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Plac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PPC-6141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2" descr=""/>
          <p:cNvPicPr/>
          <p:nvPr/>
        </p:nvPicPr>
        <p:blipFill>
          <a:blip r:embed="rId3"/>
          <a:srcRect l="0" t="0" r="1913" b="0"/>
          <a:stretch/>
        </p:blipFill>
        <p:spPr>
          <a:xfrm>
            <a:off x="3365640" y="195120"/>
            <a:ext cx="3008160" cy="4953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8"/>
          <p:cNvSpPr/>
          <p:nvPr/>
        </p:nvSpPr>
        <p:spPr>
          <a:xfrm>
            <a:off x="185760" y="960480"/>
            <a:ext cx="302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Frente:  </a:t>
            </a: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Tributário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4" descr=""/>
          <p:cNvPicPr/>
          <p:nvPr/>
        </p:nvPicPr>
        <p:blipFill>
          <a:blip r:embed="rId4"/>
          <a:stretch/>
        </p:blipFill>
        <p:spPr>
          <a:xfrm>
            <a:off x="5630760" y="557280"/>
            <a:ext cx="73188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6:30:49Z</dcterms:created>
  <dc:creator>pedro</dc:creator>
  <dc:description/>
  <dc:language>en-US</dc:language>
  <cp:lastModifiedBy>Wellington Jose Carvalho Da Conceicao</cp:lastModifiedBy>
  <cp:lastPrinted>2017-03-02T13:28:05Z</cp:lastPrinted>
  <dcterms:modified xsi:type="dcterms:W3CDTF">2020-10-16T12:25:24Z</dcterms:modified>
  <cp:revision>1218</cp:revision>
  <dc:subject/>
  <dc:title>Slide 1</dc:title>
</cp:coreProperties>
</file>